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C346-E273-4B59-9BD1-5F56110A6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8FEA-7292-4C9E-ABAB-6287100A89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669D-AF3A-4AE7-B2C3-E05830DC3A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4594-4B72-46B4-BECE-49BE7C07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63BA-E925-49B0-9018-0049A698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2AE8-EC08-4817-A46F-11B0AAB6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1731-E592-4331-A229-F5FED86A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A6AC-E72C-4702-96C1-42BAB801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6460-03FD-43C3-840F-51812D7E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6FB8-6F3A-40FB-AA93-738325FB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60B7-B726-47A3-813E-B8F6706F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49EF-0CBC-485F-B63D-5175C4EA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FE87-ED28-4D3A-9C2B-71247499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9D13-95FA-4DA7-97F1-4DCC1D72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A9A3-B95D-424C-9412-0E669520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AFDD-E51B-4837-AC19-A017189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6500-0310-4F60-8581-CA5674F5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26CE-7D92-45A9-87B0-3D4DD003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B24-714C-45E3-A56A-28166748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D7C0-53FD-46E6-B5DE-6AB10AA9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5BEB-C6A1-443B-AE35-E0ADD6FE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F72E-0E09-4FB0-937F-7180D4F4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3A03-A5CA-4267-B5D1-A9D45B2C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3D03-B71E-4F16-9619-6D34D58D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4493-5E53-4F4E-8542-B6D4327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3E25-48B4-4A2C-B43B-5505CEAF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A493-3B68-4383-9111-5C8209D4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7A00-E97A-4B6D-9A22-6C8F87C7A1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CFAF-B459-41C7-AABE-F00031BCBD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.org/1999/XSL/Transfor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71840" y="1371600"/>
            <a:ext cx="5291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Arial"/>
              </a:rPr>
              <a:t>ACG 6415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XML and XBR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emplat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 that follows roo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elements from .xml are being u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s provide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ing Elements from Instance against Template created in XS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59"/>
                </a:solidFill>
                <a:latin typeface="Arial"/>
              </a:rPr>
              <a:t>&lt;xsl:template match=“/”&gt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/ = Look in entire source docu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UBLCatalogueCompressed.jpg"/>
          <p:cNvPicPr/>
          <p:nvPr/>
        </p:nvPicPr>
        <p:blipFill>
          <a:blip r:embed="rId1"/>
          <a:stretch/>
        </p:blipFill>
        <p:spPr>
          <a:xfrm>
            <a:off x="339840" y="1143000"/>
            <a:ext cx="846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UBL Catalogue Node Tre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3429000" y="4952880"/>
            <a:ext cx="1981080" cy="99072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talo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0" y="2666880"/>
            <a:ext cx="114300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43000" y="2666880"/>
            <a:ext cx="129528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2438280" y="2666880"/>
            <a:ext cx="129564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733920" y="2514600"/>
            <a:ext cx="1752480" cy="121932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486400" y="2590920"/>
            <a:ext cx="1752480" cy="121896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7238880" y="2590920"/>
            <a:ext cx="1905120" cy="121896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talo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11"/>
          <p:cNvSpPr/>
          <p:nvPr/>
        </p:nvSpPr>
        <p:spPr>
          <a:xfrm flipH="1" flipV="1">
            <a:off x="571320" y="3504960"/>
            <a:ext cx="384804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13"/>
          <p:cNvSpPr/>
          <p:nvPr/>
        </p:nvSpPr>
        <p:spPr>
          <a:xfrm>
            <a:off x="1789920" y="3505320"/>
            <a:ext cx="262908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21"/>
          <p:cNvSpPr/>
          <p:nvPr/>
        </p:nvSpPr>
        <p:spPr>
          <a:xfrm flipV="1">
            <a:off x="4419000" y="3733920"/>
            <a:ext cx="190440" cy="12189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traight Connector 23"/>
          <p:cNvSpPr/>
          <p:nvPr/>
        </p:nvSpPr>
        <p:spPr>
          <a:xfrm flipV="1">
            <a:off x="4419000" y="3809520"/>
            <a:ext cx="1942920" cy="114300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 flipV="1">
            <a:off x="4419000" y="3809520"/>
            <a:ext cx="3771720" cy="114300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traight Connector 27"/>
          <p:cNvSpPr/>
          <p:nvPr/>
        </p:nvSpPr>
        <p:spPr>
          <a:xfrm flipH="1" flipV="1">
            <a:off x="3086280" y="3504960"/>
            <a:ext cx="133344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 rot="16200000">
            <a:off x="1447560" y="2666880"/>
            <a:ext cx="838080" cy="2971800"/>
          </a:xfrm>
          <a:custGeom>
            <a:avLst/>
            <a:gdLst>
              <a:gd name="textAreaLeft" fmla="*/ 246240 w 838080"/>
              <a:gd name="textAreaRight" fmla="*/ 838440 w 838080"/>
              <a:gd name="textAreaTop" fmla="*/ 123840 h 2971800"/>
              <a:gd name="textAreaBottom" fmla="*/ 284832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749160" y="38466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f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20"/>
          <p:cNvSpPr/>
          <p:nvPr/>
        </p:nvSpPr>
        <p:spPr>
          <a:xfrm rot="16200000">
            <a:off x="5867280" y="2895480"/>
            <a:ext cx="838080" cy="2971800"/>
          </a:xfrm>
          <a:custGeom>
            <a:avLst/>
            <a:gdLst>
              <a:gd name="textAreaLeft" fmla="*/ 246240 w 838080"/>
              <a:gd name="textAreaRight" fmla="*/ 838440 w 838080"/>
              <a:gd name="textAreaTop" fmla="*/ 123840 h 2971800"/>
              <a:gd name="textAreaBottom" fmla="*/ 284832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5397480" y="40752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nch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4038480" y="1371600"/>
            <a:ext cx="175284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5791320" y="1295280"/>
            <a:ext cx="175248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y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7391520" y="1219320"/>
            <a:ext cx="175248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 flipV="1">
            <a:off x="4724280" y="2285640"/>
            <a:ext cx="76320" cy="152280"/>
          </a:xfrm>
          <a:prstGeom prst="line">
            <a:avLst/>
          </a:prstGeom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to transform dat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HTML&gt;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ells processor transformation will use html tag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ode between &lt;HTML&gt; and &lt;/HTML&gt; code is the data to be transformed and the formatting code for the trans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1447920" y="685800"/>
            <a:ext cx="79246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?xml version="1.0"?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nventory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nventoryItem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ame&gt;Basketball&lt;/Na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dNumber&gt;12345&lt;/IdNumb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Cost units="USD"&gt;12.50&lt;/Cos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tailPrice units="USD"&gt;25.00&lt;/RetailPric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InventoryItem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Inventory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lue-of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s and transforms/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s the value of the selected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 the end of the nod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0" i="1" lang="en-US" sz="21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attribu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must point to the “node” you want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ll node path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ntory/InventoryItem/IdNumb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//elementname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when one and only one element has th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at root and look for element n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59"/>
                </a:solidFill>
                <a:latin typeface="Arial"/>
              </a:rPr>
              <a:t>&lt;xsl:value-of select=“Name”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-of select can use a function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-each loop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ll elements contained in a node-se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de-set is declared with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ttribu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.xsl code provide instructions for what to do with selec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at transformations to mak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TML, and XSL tags combine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xsl:for-each select=“Inventory/InventoryItem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ume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il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oo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n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at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s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ize-spac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s-with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-length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-afte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-befor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mat() func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-number attribute has two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attern (see formatting pattern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59"/>
                </a:solidFill>
                <a:latin typeface="Arial"/>
              </a:rPr>
              <a:t>&lt;xsl:value-of select =“format-number(sum(Inventory/InventoryItem/Cost),’$#.00’)”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2362320" y="4724280"/>
            <a:ext cx="4038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736440" y="48006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6629400" y="4800600"/>
            <a:ext cx="914400" cy="457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631560" y="48006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4038480" y="41911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6934320" y="42670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matting Numbe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A dig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 A digit, zero shows as abs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pref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period) Placeholder for decimal separ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laceholder for grouping separ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Separate forma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fault prefix for neg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Multiply by 100 and show as a percen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Any other characters can be used in the prefix or suffi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to quote special characters in a prefix or suffix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-Purpo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benefit of XML / XB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usability of Data contained in Instance Docu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e need a method of presenting the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ation Link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ccessing Remote Instance Doc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()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xsl:value-of select=“document(‘URI.xml’)”/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utput (HTML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ransformation will be to an HTML doc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Cente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ABLE BORDER = ‘1’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fines the border width for the tab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able Hea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tarts a new row in the tab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D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tarts a new cell in the row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lspan=“#”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any columns should this cell s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lign=“right, left or center”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ags must be close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fining Tables in HTM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able Border=“n”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begin making a tabl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H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use text as heading (1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row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insert a new ro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D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insert a new column in the new ro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ose all ta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&lt;/TD&gt;, &lt;/TR&gt;, &lt;/Table&g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able with 2 rows and 3 colum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ABLE BORDER=“1”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1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2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3&lt;/TD&gt;&lt;/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1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2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3&lt;/TD&gt;&lt;/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y it’s based on XM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e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at the data will look lik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use, Repurpose, calculate, sort, etc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 Par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ransform Instance Document to different For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ML, XHTML, XML (new), PD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r formatting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formation Requires xml code in Two Documen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nce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Prolog line linking to xslt docu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T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ntains script for selecting elements to be display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XS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80880" y="4343400"/>
            <a:ext cx="8534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Xtensible Stylesheet Language –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Native XML language for processing XML documents into other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352680" y="2209680"/>
            <a:ext cx="1905120" cy="1600200"/>
          </a:xfrm>
          <a:prstGeom prst="cube">
            <a:avLst>
              <a:gd name="adj" fmla="val 250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X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914400" y="160020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914400" y="312408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S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6553080" y="228600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2133720" y="34290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5257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forming your Instance Docume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an additional prolog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your .xml to your .xsl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59"/>
                </a:solidFill>
                <a:latin typeface="Arial"/>
              </a:rPr>
              <a:t>&lt;?xml-stylesheet type=“text/xsl” href=“name.xsl”?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-styleshee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ls the processor to use the stylesheet file to format the data in the .xml docu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ref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ints to location of .xsl docu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 (the XML code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 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space decl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xsl:stylesheet xmlns:xsl=</a:t>
            </a:r>
            <a:r>
              <a:rPr b="0" lang="en-US" sz="1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w3.org/1999/XSL/Transfor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ersion="1.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other namespaces used in the instance document (THEY MUST M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fault namespaces (e.g. without the prefix) are not allowed in XSLT v 1.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Need to make up a prefi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 Scripting Co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s us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-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-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rmul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, -, *, di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t-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38:08Z</dcterms:created>
  <dc:creator> </dc:creator>
  <dc:description/>
  <dc:language>en-US</dc:language>
  <cp:lastModifiedBy>Steven Hornik</cp:lastModifiedBy>
  <dcterms:modified xsi:type="dcterms:W3CDTF">2011-06-30T12:05:04Z</dcterms:modified>
  <cp:revision>51</cp:revision>
  <dc:subject/>
  <dc:title>ACG 5405</dc:title>
</cp:coreProperties>
</file>